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C3B-66B6-4818-9ABD-8DED18D5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71E-B625-4442-9FC3-992C2850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39C-8296-4A1E-B348-5E3000E6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EB0-2A05-46DB-9AEA-CEF6E8F6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E93-AB3B-495F-9FC3-9E1E0B37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CCB-B356-4EE4-8670-A5BCF48E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A7C1-5688-4475-B56E-744EE70D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BC1D-5E80-47A2-B888-2AEEF14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6C4E-4033-46B3-BE1B-7D965A4B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50D-FF9D-48BB-8803-5B24C91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C58-DA84-40B5-BF7B-EF97E5ED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1D9-71D6-4F0E-A310-DCAF267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255E-AF1A-49C0-A4D4-0A54460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7C23-B800-49A7-A790-BD1A348C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6EEC-356F-4952-9F42-3F77A07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16DC-A30E-4421-9002-6A3564E5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94C-270E-4D50-A2F8-51040EDE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376-B631-4D05-A207-7CC51E4C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D7B-1BFA-4CD0-801E-2A62BB2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171-7B72-4407-9DC1-16C53D8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E23-B1BD-47DD-B59E-194C9AF8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71E-D9E7-4F99-BA00-2956227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B66-CD0D-4916-831C-DBDB152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0F8-1219-4E58-8F99-A971768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91E4-D689-4AE1-A0ED-99275AEF081A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4188-95E4-465E-BD92-A19D3618E1E7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MASOVNE BOLESTI INFEKTIVNE I NEINFEKTIVNE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ETIOLOGIJ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20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oslednjih decenija poseban problem predstavljaju bolesti koj se prenose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seksualnim pute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(direktnim kontaktom), medju kojima najveći značaj, svakako, ima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sid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. Medjutim, ne treba zaboraviti na "klasične" polne bolesti (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gonoreja, sifili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, kao i na pojavu tzv.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nespecifičnih uretritis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izazvanim raznim bakterijama, virusima i gljivicama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oslednjih godina poseban značaj ima infekcija izazvana 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Chlamidiam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načaj ovih bolesti se ogleda u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letalitetu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(sida), ali i u posledicama koje mogu da ostave (trajni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sterilitet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edju značajnim zaraznim bolestima od koje pati čovečanstvo spada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ju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hepatitis B</a:t>
            </a:r>
            <a:r>
              <a:rPr b="0" lang="sr-Latn-CS" sz="3200" spc="-1" strike="noStrike">
                <a:solidFill>
                  <a:srgbClr val="66ff33"/>
                </a:solidFill>
                <a:latin typeface="Arial"/>
              </a:rPr>
              <a:t> i C,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koji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(hepatitis B)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o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gu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dovesti i do nastanka primarnog karcinoma  jetr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Na sreću, protiv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Hepatitisa B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postoji uspešna i veoma efiksna vakcina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, ali ne i za Hepatitis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Masovne hronične (tzv) nezarazne boles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 Bolesti srca i krvnih sudov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koronarna bolest sr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hipertenzij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reumatsko oboljenje sr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2.Maligne bolest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3.Povre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saobraćaj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na rad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4.</a:t>
            </a:r>
            <a:r>
              <a:rPr b="0" lang="sl-SI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Š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ćerna bo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5.Mentalne bolest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6.Bolesti zavisnost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7.Zubni karijes i dru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15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jedničke karakteristike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MHNB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u njihovoj pojavi, nastanku i toku značajnu ulogu imaj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faktori spoljne sredine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prema incidenciji i prevalenciji nalaze se 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medju deset vodećih bolesti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javljaju se masovno, 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epidemijskom obliku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kosmopolitsk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i su rasprostranjena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nazivaju se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bolestima civilizacij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ugrožene s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sve kategorije stanovništva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izazivaj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ozbiljne posledic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troškovi lečenja i angažovanja zdravstvene službe su veliki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obično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traju doživotn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često jedna osoba boluje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od više bolesti iz ove grup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predstavljaj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vodeće uzroke smrtnosti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u svetu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smrtnost i obolevanje se registruje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u svim uzrasnim grupama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sa tenden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cijom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pomeranja ka mladjem uzrastu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uspešna kontrola i suzbijanje zahtevaj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timski rad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u njihovoj kontroli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najvažnije su mere prevencij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u zemljama u kojima se sprovodi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planska preventivna aktivnost dolazi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do njihovog </a:t>
            </a:r>
            <a:r>
              <a:rPr b="0" lang="sr-Latn-CS" sz="1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opadanja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    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predstavljaj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najsloženiji epidemiološki problem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i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Wingdings"/>
                <a:ea typeface="Wingdings"/>
              </a:rPr>
              <a:t>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 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epidemijska prognoza ovih bolesti, u principu, je nepovoljna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idemiologija se bavi proučavanjem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masovnih poremećaja zdravlj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, pa je sasvim razumljivo da prioritet njenog izučavanja predstavljaju bolesti infektivne i neinfektivne etiologije koje se </a:t>
            </a:r>
            <a:r>
              <a:rPr b="0" lang="en-GB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masovno javljaju u jednoj populaciji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nfektivne i neinfektivne boles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Podela bolesti na </a:t>
            </a:r>
            <a:r>
              <a:rPr b="1" i="1" lang="en-GB" sz="1800" spc="-1" strike="noStrike">
                <a:solidFill>
                  <a:srgbClr val="66ff33"/>
                </a:solidFill>
                <a:latin typeface="Arial"/>
                <a:ea typeface="Times New Roman"/>
              </a:rPr>
              <a:t>infektivne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66ff33"/>
                </a:solidFill>
                <a:latin typeface="Arial"/>
                <a:ea typeface="Times New Roman"/>
              </a:rPr>
              <a:t>neinfektivne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je krajnje uslovna, jer mnoge tzv. "neinfektivne" bolesti nastaju i pod uticajem odredjenih bioloških agenas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Primarni karcinom jetr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može biti i posledica hronične infekcije virusom hepatitisa B,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aktor rizika za nastanak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Kapošijevog sarkoma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je infekcija HIV virusom,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arcinomi grlića materic</a:t>
            </a:r>
            <a:r>
              <a:rPr b="0" lang="sr-Latn-CS" sz="1600" spc="-1" strike="noStrike">
                <a:solidFill>
                  <a:srgbClr val="66ff33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mogu biti posledica infekcija papiloma virusima,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ijabete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može nastati nakon virusnih infekcija pankreasa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nfekcija </a:t>
            </a:r>
            <a:r>
              <a:rPr b="1" i="1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Schistosoma  hematobium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-om urinarnog trakta predstavlja faktor rizika za nastanak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raka mokraćne bešike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U etiologiju </a:t>
            </a:r>
            <a:r>
              <a:rPr b="0" lang="sr-Latn-CS" sz="1600" spc="-1" strike="noStrike">
                <a:solidFill>
                  <a:srgbClr val="66ff33"/>
                </a:solidFill>
                <a:latin typeface="Arial"/>
              </a:rPr>
              <a:t>ulkusa želuca</a:t>
            </a:r>
            <a:r>
              <a:rPr b="0" lang="sr-Latn-CS" sz="1600" spc="-1" strike="noStrike">
                <a:solidFill>
                  <a:srgbClr val="ffffcc"/>
                </a:solidFill>
                <a:latin typeface="Arial"/>
              </a:rPr>
              <a:t> važnu ulogu ima bakterija helikobakter pilori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U principu, masovne bolesti "neinfektivne" etiologije (maligne, kardiovaskularne bolesti, dijabetes, karijes, parodontopatija...) su posledica dejstva većeg broja faktora (kako infektivne, tako i ne infektivne prirode) i za njih kažemo da su </a:t>
            </a:r>
            <a:r>
              <a:rPr b="0" lang="en-GB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multikauzalnog karaktera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Za nastanak infektivnih bolesti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nepohodan uslov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 je infektivni agen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koji odredjenim mehanizmima dovodi do nastanka infekcije i infektivne bolesti, ali nastanku bolesti doprinose i olakšavaju ga 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i mnogi drugi neinfektivni faktori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(kako je već pomenuto: nepravilna ishrana, stres, prehlada, fizička iscrpljenost organizma...)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, što sve čini </a:t>
            </a:r>
            <a:r>
              <a:rPr b="1" lang="sr-Latn-CS" sz="2800" spc="-1" strike="noStrike">
                <a:solidFill>
                  <a:srgbClr val="66ff33"/>
                </a:solidFill>
                <a:latin typeface="Arial"/>
              </a:rPr>
              <a:t>dovoljan uslov</a:t>
            </a:r>
            <a:r>
              <a:rPr b="1" lang="sr-Latn-CS" sz="2800" spc="-1" strike="noStrike">
                <a:solidFill>
                  <a:srgbClr val="ffffcc"/>
                </a:solidFill>
                <a:latin typeface="Arial"/>
              </a:rPr>
              <a:t> za nastanak bolest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Medju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infektivnim bolestim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veliki je broj onih koje se javljaju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masovno,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koje zahvataju veliki broj stanovnika na odredjenom području ili čak i ceo svet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jihove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posledi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su različite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Bolesti koje  zahvataju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najmladju populaciju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(decu i omladinu), a koje (iz raznih razloga imaju visok letalitet) direktno utiču na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biološki potencijal populacije i opadanje broja stanovnika;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bolesti koje su učestale u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radno sposobnom delu populacij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direktno utiču i na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smanjenje nacionalnog dohotka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(zbog velikog odsustvovanja sa posla),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 jedne i druge predstavljaju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značajan medicinski probl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Medju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najraširenijim zaraznim bolestim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do uvodjenja obaveznih sistematskih vakvinacija  bile su tzv. </a:t>
            </a:r>
            <a:r>
              <a:rPr b="1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dečje zarazne bolesti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(male boginje, zaušci, veliki kašalj, dečja paraliza, crvenka, ovčije boginje) od kojih su bolovala skoro sva de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Mnoge od ovih bolesti su se karakterisale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visokom smrtnošću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(na primer male boginje) ili 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teškim posledicam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koje su ostavljale po zdravlje (dečja paraliza). Uvodjenjem vakcinacija došlo je do značajne redukcije ovih oboljenja, a neke su i na pragu iskorenjivanja (dečja paraliza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8680" y="1600200"/>
            <a:ext cx="820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oma visoku učestalost imaju i pojedine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crevne zarazne bolest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koje, pored dece, zahvataju i odraslo stanovništvo. One su posebno značajne u nehigijenskim sredinama i medju stanovništvom gde je zdravstvene kultura niska. U okviru ove grupe bolesti najučestaliji su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proliv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različite etiologije (enterokolitisi),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dizenterij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salmoneloz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ali i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koler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. U pojedinim sredinama poseban značaj imaju i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crevni parazit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 medju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kapljičnim bolestim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postoje bolesti koje imaju sličnu učestalost kao i enterokolitisi: respiratorne infekcije različite etiologije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("kijavic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",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faringitis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, a pojedine se mogu javiti i u vidu pandemija (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grip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. Ove bolesti se veoma lako šire u populaciji (vazdušno-kapljičnim putem), a jedina efikasna mera u njihovom sprečavanju je vakcinacija. Nažalalost,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Times New Roman"/>
              </a:rPr>
              <a:t>za mnoge od ovih bolesti ne postoje vakcin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a ni efikasna terapija (virusne bolesti), pa se one masovno nesmetano javljaju u celom svetu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 medju  bolestima koje se prenose putem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različitih insekat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vektora) ima takvih od kojih oboleva veliki broj ljudi. U oblastima sa toplom i vlažnom klimom poseban problem predstavlja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malarij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koju prenose komarci (iz roda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nophelex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-a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8:35:01Z</dcterms:created>
  <dc:creator>IZJZ</dc:creator>
  <dc:description/>
  <dc:language>en-US</dc:language>
  <cp:lastModifiedBy>IZJZ</cp:lastModifiedBy>
  <dcterms:modified xsi:type="dcterms:W3CDTF">2008-10-15T08:54:28Z</dcterms:modified>
  <cp:revision>2</cp:revision>
  <dc:subject/>
  <dc:title>MASOVNE BOLESTI INFEKTIVNE I NEINFEKTIVNE            ETIOLOGIJE </dc:title>
</cp:coreProperties>
</file>